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D9C388-A050-44F9-A765-2C1BCFDC19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0E0003-2F3C-41E8-9F77-FA00303254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CC310F-F277-426B-A24F-C81D2A5339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20F8C8-A1D6-4EBB-B3E9-8B3AFC96C0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549B203-C661-419A-A3ED-A61FD5A15E2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0A81D7-D134-4AEB-BB20-DBD5B0D593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2563F8-8EE2-4E48-8CC1-8673ACDEE2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027EBE-C222-45A7-A28A-6159239BC0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D3DEC6-FD4E-4078-AED1-0D0CB556C7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FD14AA-6928-4E41-82B9-2B2953AD45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9D35AA-D6EE-43D6-8F19-0B5811BBF7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E8ADF4-8D08-4A0E-92A4-A03F420262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C57049-7D48-4EFB-8372-5D67D14D7C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8F541B-E91B-4024-8C54-50191DB771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25A3EF-E7A1-41C3-8519-B5E4F834F3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91DAB1B-1E1C-4AEB-9C38-0DEF799A8EA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58CED9A-E55B-48AA-92B8-353B47ACE18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2DA15D-D325-43CE-9936-6F83499EAB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3E1838-FD24-4545-9218-1BA4FE38E3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165CC7-709B-4C66-AD3C-76966F23A2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987DB4-B077-4581-840D-C95F20C406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90F886-6597-4A9E-8079-9517A36AC9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142FA8-FA12-4949-800A-5F08A66E6E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64D67E-04D9-4F4E-8E92-1E867E8EF4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67C7F8-CD7E-4063-8243-DB87C259672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3EE260-7358-4A5E-82D4-2DAD7349946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2A289CD-6CCF-4629-A156-490A56992ED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759B3A5-43E6-40AA-B272-234E00DE4F76}"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973B8F-D197-4141-AFFD-4A808A904A9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2C4918-8A8F-4F1A-99A8-D97C2709D9DD}"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4EDC83-5F2F-4A66-8A0E-2BC3DCD9961F}"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2F6536-78A7-46DC-BA20-925251029064}"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FE7C5A-5FE3-4C23-A902-4C01A0A0E8A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5656A1-40B9-4E68-9F63-87FBE9861DB8}"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9FCEB2-7120-45EA-9AA2-36FB1BB8F1F4}"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407A3E-7CA8-4AA8-9534-725C8DBDCB5A}"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B3FBD4-18BF-4D60-BD1D-8339F8FF10C3}"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E9418C-08AA-4CB1-BCE8-4DBB4686CC6E}"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EBEA4E-6F3A-40BD-984A-95BC079943D3}"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03A2FC-B66B-478C-B47D-40565E580782}"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D862DC-965F-419D-8A8C-30BC976343BD}"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628D46-3FA2-4702-B096-20C1163F12F1}"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082C4B-9FA2-4D24-9F95-A87B8F280C7C}"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09959C-F0CA-4764-B793-36D98C102C30}"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8C78D7-D154-478E-AF75-533B9635D492}"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3CAEC9-033E-4A5B-80BA-86BB75638363}"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C8A629-63F2-4600-9093-CECBD08AE427}"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F1422A-FB45-4DCB-B84F-EEC4B0BEA98D}"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E0B940-D1F6-4ECB-B531-1E3E3E95B487}"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5E75A6-E672-4AB9-8B3C-CCD0ECDA56AA}"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2F531A-3746-47EE-8D59-A5914FFC313F}"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40E2A7-A324-4552-B661-1B5521AF973A}"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DA24F2-81B7-4974-A56E-04F7CBBE5F98}"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D1737FE-7C93-4B7D-88F7-E42F4FCE2523}"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AD52C1-ADFB-4765-A97B-88A2BED99B55}"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FDA9FA-4B3A-4870-95E1-EBF99515B5D4}"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E10F64-56F9-4EFC-A7D7-CB44C97989B9}"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E3D4FF-12BF-47F4-8450-3146E0CCAAD8}"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49436D-C450-4C01-BB12-4A1D454C056F}"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AC8D86-80E8-4797-AC81-FBF4C153CD00}"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48932B-FA00-4E5D-A1A2-AECC43544AD6}"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5143F4-8936-4F4C-B3A4-3CEA35BEEC5E}"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CF82D3-4B28-442B-BC21-BCF587C28C29}"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58A181-FF1A-4545-B84C-5026264C17E4}"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D8240B-07D0-405A-8C2F-704E64833D07}"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27BD6D-BD91-49AB-AE5F-1BCF864ABE41}"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7FE645-7C67-46D9-9D58-2CC0D6435FE3}"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9B26F4-0CD3-4EDC-A042-AFE82188CA22}"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12836B-0BC8-44CC-BDF3-301BA2AE75E8}"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0F71CC-694D-4E49-A520-0087C5E2708E}"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6F8832-3A8E-40A0-9C09-75F9E1B7A8A0}"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CB3C3F-94BC-4A2E-A457-1F066EC5B6CC}"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2E17B0-8A26-404F-A32B-1E455DC85B43}"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3EBE0B-70E5-43AD-88BD-623BF62E5442}"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395F25E-1739-4BCF-A1E5-6127ECABA51E}"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F95A8C-3816-41B6-BE4A-96A5090EB9E0}"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B4DC4A-A9B7-4034-8859-020269BE1CB2}"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8361888-1326-4B87-9314-1B45C84D193E}"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A90B19-CCC0-4280-8E01-398118F3BC27}"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753240-DBA6-40E4-B7BA-D5171B1AE26B}"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A4C027-1DFB-4849-B0A5-5F547C4C3FF9}"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53E82C-58A5-4EB4-A15D-B84BA137E16B}"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C404FA-4798-4851-A908-81FAA39AE5A9}"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27823B-65FE-4A4D-802F-F5F4E97DF69E}"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7C4FB0-B617-4ABA-A00A-2EF8CA7EF107}"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1C94C52-4BE2-435A-BD1E-2B9767128113}"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E05894-F129-4D49-96B7-9232C1C699C8}"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828188-3E10-401E-9008-332C7706A2FF}"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C83849-4CE1-40B3-B567-B17257E78AFE}"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DD9E1E-6196-4CB9-ACAC-EF1176F696A6}"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F5CEE9-8026-4B0F-A646-198A12C3D4CA}"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DB89B1D-A47A-4FA0-AC35-CA660123742B}"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BF6514-9ABA-49A6-A316-9E19C173B9DB}"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2D039E-4EDE-4248-AF5A-34C205224B1E}"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F62867-BDB0-4D2E-A37C-934AA62C9D67}"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196AE5-AE2B-4CF5-98D8-B1BB04F86867}"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464F254-3EC6-41D0-BE8E-E38D31014214}"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ABE2F5-396E-4F50-BDA6-9FDA1E31226C}"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4BFD2B-53BE-42E0-8D63-883FB48EAF42}"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74885B-D8BC-4281-9D68-862139E0150B}"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98192E-0146-45D6-BFE9-7CE30F44EEAD}"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6659B2-70E8-467C-97C5-3C35CD98F01F}"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89D9C8-85A0-45A4-8065-32EEE5465336}"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983520C-7E4A-40F1-929A-DB91C4C42105}"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297BE2-61C2-491F-971A-4AA2E5036965}"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89C759-5D2B-42F3-A2C2-65C4EDF732FE}"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87CE47-395C-4941-85C5-931AE90708A9}"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0BF203E-5EE3-4879-913F-DF540973C247}"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E38D4D-CAED-4701-825D-A45241D8DFCC}"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392BA87-5F3C-40B9-A7CB-8B89E543476F}"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9CFD1D-D90F-40D9-A8E1-3E69C8AEF2B8}"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F068FC-0C03-4002-993C-374FEAB07B49}"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DA9447-725F-4C39-8ABA-76C8D53993D7}"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ECC94A-AB02-49E4-A2C9-1E3382FA187A}"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E1B920-E5DC-4079-8B72-838DCC30DF85}"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BD9EBB-CFC5-4386-B234-15B440273D93}"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1C2D46-B0AF-444F-B07F-50CF49C63BCB}"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A31A61-0E55-4CD2-A443-36C379B09E96}"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6D44CB-8AB5-4F98-AC04-BAAD722DAF2D}"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E63F58-3B39-4E88-ABC1-531445F5040F}"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EBCAA7-F8DF-4EFA-BC23-CFE58D2B7717}"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44F190-DBDB-4067-8667-9ED9E2879C3A}"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39E653-6D3A-42C6-A135-64EB38B69606}"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251C8E-B0B2-40C1-8C0F-22A011632DD7}"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810201-E3F5-4438-B9B6-E927D2C51C5D}"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11C6897-0CC5-4BB8-9CFE-D56CD60704B0}"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EBD7F9-4678-45B4-A581-53D5D8411CCA}"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4FC601-1131-4646-BA44-6E65E677EC05}"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66AAA2-B4A8-4B06-9339-DAB38DD7D603}"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73B21A-3FCD-4E47-8243-003AD9425544}"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3AD7DE-02A4-4C67-A867-D60CBEC05D6A}"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C4E7E8-8D7F-48A7-BEF3-9F6AC9A22279}"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3D08B2-8069-4991-B8B4-B868DE92D06E}"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6922D6-5E04-4954-86D1-393BCAA9642A}"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169664-4FE1-4977-B912-955159BEF42C}"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6A1F32-FCA2-4291-B6FB-6D5C86017CE2}"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03BF5F-DEA4-4C98-9E38-054F3BB8D410}"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F802EF-78FB-4D0D-9E2D-51E84C2546D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9956EE-B8F2-4879-9E98-E7B8B3F59A27}"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BDCC94-368D-44F9-AF32-D5556B43AE11}"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C0B69C-78A8-405D-AA0D-4504F8CE6539}"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DA48E7-946E-4563-B166-3E371D763F09}"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B30B8D-D20A-48A1-98A5-A27C3E964DAE}"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062D6B-E149-4CA4-A5DB-1397A26E9F10}"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C0572A-D2C5-4F11-A464-68EBFE1BDB2F}"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C33DB7-3276-4728-B330-0C2A8E5A5E49}"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7664F8-F126-4D0F-A31E-559DB7AA607B}"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7720D5-A9DC-4A2E-B17E-7A90B0A1C674}"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1B372B-AD26-4ABF-9981-D10A33859994}"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D2C420-571E-4BF4-9A3F-348DDEC9E8A9}"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3530E2-766F-4484-9884-5B9DE5E855C6}"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2ED06C-CE55-44AC-BD65-7910892FD975}"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7B4164-4F3E-4C06-BD77-20C1D0426249}"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667E0EC-FC0B-4695-A503-41B32FA5FCA3}"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31EE2B-8AA8-44AF-9C1C-D782EF694A8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235CE1-38BC-4F7E-B3C3-F9AD51B0455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127829-1DE6-4E70-991D-375C7D4F67C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041943-9E91-4F4D-8905-BDA119B8825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89EF71-C5C7-4915-A8CF-924ECBE5115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7E63E8-4D14-45E8-9692-42CA06F2D38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41096AE-DC4F-4D3A-802C-2E38EEEE579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ABD8B0-280A-4581-AD18-7891E1B71E3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3D1A12-85FF-4604-99BC-23C158D3B4D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6C5DC9-950E-4306-A896-C82361286AC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BD6B80-F967-44F3-9A86-5D82F0A4D72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B126B9-9B63-4DC3-AC95-F0987700195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3DBD57-E4EB-49EB-8DBB-39789E5E45A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DA2029-97CE-4905-90F2-BA3F5189E94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AA3B06-35C4-49C1-A8F7-9B1703612E2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7A70AF-9E1D-498C-883B-0B0FBBE1A3C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FE30B4-EA53-45F2-ADA1-CE4154B8F17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BEC323-7AEB-4027-A232-13ECB283267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4183FC-0345-4D66-B26C-11F9DEFC8D4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A18C0E-7A44-4FB0-9587-1006C1F63F6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1BB18A-4F73-492F-83C3-E07C90FD864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F0D86B-A4D1-4ABA-9A81-CC793D59A77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A294B7-D86D-48F9-B678-BBBFF8FA3DA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341171-391C-4C45-8B4C-B24DC035ED8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AAAC5B-7ADC-49B7-AC38-2B7E01BA69A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3B4086-B465-49C6-9281-FC6E7749CF3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F84031-8CF8-486C-9391-C8F94073B99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6C93F1-1992-4581-A5BF-4ED217DB2F7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61F8BB-8659-4F10-969C-FFE0CDC679F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D0301B-E0A5-46AE-A494-42A757022A0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BA424A-82D2-4D4A-8CD5-C4B036036F1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638AF2-79EA-4BF2-AFEE-266AEFC882F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37928A-58F6-4566-882A-5A699923526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AE9CAE-149B-4A42-9359-AE4F78C0653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FB084D-50FF-4E3E-A2DD-1EBCF85F71F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81521F-E12E-4B30-BFF3-2A7AA8E81AD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EA6136-FA6A-4C1A-BE60-11FECE760F8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B1FFCA-1B60-46C2-BEC3-0EDA1FD41CC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37B9C1-89D5-4AA2-B700-DF5991A66FA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D1E245-22D0-409F-B082-FB26DAD3E89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58BF47-F7CF-4DD7-9A0C-821BEB20A33D}"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496337-1B50-4044-9F6C-6754125B26D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3D216D-0BB0-4C70-85D9-3CE9F5ECC04C}"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D903D2-30C4-4343-AA00-D66C5FCE2C93}"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B6C9A7-9DAD-4CD5-92E3-700CCA0AAE2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1255D4-0A5D-48D3-9A4B-E7BE2027034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2DA188-5963-4ABF-BF17-4DCD77589A1C}"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1BD4E58-F710-476C-9054-80A4B01F028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403008-49D6-468C-BE3A-92148A7A9A0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FF5A94-643E-41B4-AEA6-26DE1E45CDE7}"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F6359E-EA3F-4FE2-B94A-EA399D9B5466}"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5217B2-4214-4732-93BB-8449E22B22C1}"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584E68-76F7-47EE-B1A4-5D7FD2B3AC29}"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00E524-00A1-42D7-B73A-D62A178E088C}"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101124-208B-442C-BBA5-A936E9F56CEE}"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AFD653-A478-4373-89BE-70D9FB98667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322BF3C-7278-4457-BE28-D8D285F03E3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C45D57-7116-4324-9A79-B20DC9BABBB0}"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CC7F24-6356-40E1-8E09-121EA425F21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2EC9DF-FDC8-43CA-97E2-D248059D2DC2}"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10D53C-9C11-4382-A6EE-117D4A343B3C}"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C544AB-00B8-4A2E-91DE-243EF14C3EB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8A5C2A-7FCF-427E-B1F9-ACC2274E692D}"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204FB5-6605-4EE7-8A23-D22F21868713}"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843ED7-44D6-4327-A1CA-8F40896677C0}"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DBA0BF-71EB-4767-AC56-10121E333C6F}"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80F01D-0BBE-4A35-94BD-C546DE8D2432}"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0363FE-0C8C-49EE-9EBB-9694A8F9455E}"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6F2E7A-8673-4BB5-A5F1-FD94F38338FC}"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F2C837-0D78-4BE0-A50D-E38548950F55}"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FEC23E-3A9B-4774-ADE8-8B955F94DEA8}"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58C995A-36CA-42E6-9AC2-40558E4FC9D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7132FC-CDEB-48CF-A766-3A1BC800A9AE}"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9B0135-C511-4075-96F8-00E6A626107F}"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4AFCDF-C414-495A-96AB-8D482E958977}"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9F97B8-E992-48C0-A7C8-6411BD3146F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481EA6-F13F-4132-A117-4E2AA3DFC832}"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D62B98-8A39-433A-BAE4-C9E874DF83F3}"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663C42-4219-4BCB-94C6-89D7974212E9}"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D4B6D5-013E-4F5D-9E05-02836A4D2CA3}"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1A2706-7BF3-42A8-9B9B-C4276345E451}"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7AD58E-951D-4DB9-8976-A7BF22672070}"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C80730-D09C-4E26-8D9E-C4F4A900744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9C5AD3-E1B9-47EE-9EBD-A2D1D769327A}"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0F4327-7ACF-4036-AABB-D75E5E68A059}"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