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53316"/>
        <c:axId val="2067333"/>
      </c:barChart>
      <c:catAx>
        <c:axId val="95253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7333"/>
        <c:crosses val="autoZero"/>
        <c:auto val="1"/>
        <c:lblAlgn val="ctr"/>
        <c:lblOffset val="100"/>
        <c:noMultiLvlLbl val="0"/>
      </c:catAx>
      <c:valAx>
        <c:axId val="2067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53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A402-80B1-4903-B580-DC67D56A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EC1-AD33-48E4-9B29-B38E5427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233-A9AE-4A78-A408-23DD53C5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662-FEC6-42FD-B400-0E5B1A7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A01-49F4-4A1E-BC2B-3C90882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E1D-6A0F-40BB-B105-72BB6CD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A69-B3A5-4AA1-B92D-01617F35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75B-300B-439E-807A-A7F9AAAF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03F-27ED-4235-9075-A9C7A70A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D87-6DDE-4209-A43E-4D17CEE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612-FD47-4E90-8BEB-4E6D274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F27-0ECF-41A6-AB1B-C1792813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C56D5-BF28-4A5C-A045-008DFA0AD9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