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84243"/>
        <c:axId val="33625234"/>
      </c:barChart>
      <c:catAx>
        <c:axId val="25284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25234"/>
        <c:crosses val="autoZero"/>
        <c:auto val="1"/>
        <c:lblAlgn val="ctr"/>
        <c:lblOffset val="100"/>
        <c:noMultiLvlLbl val="0"/>
      </c:catAx>
      <c:valAx>
        <c:axId val="33625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84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143-0619-497F-8D60-30756301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7FD1-65C2-4FD2-BDD7-193176C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760-3B2F-484F-9ACF-7968BE9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39D-1196-4BF4-A9AE-B11BDAE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36F-2F3B-4AFA-8B6B-F748F33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828-4835-4EE3-9C15-6D00A1F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EAD-8C3A-4C68-9D9C-60936932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018-6E93-4E8A-951D-CDEB224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D5D-A898-4946-91FE-BC2A89DC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C5F-655D-402A-8F47-96B5E70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C14-102C-4D61-94D9-B19A384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F64-0DCE-42F0-A698-0FDADD5D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1FD8B-24FC-4F4E-A6F5-FEA530A50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