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60190"/>
        <c:axId val="31062399"/>
      </c:barChart>
      <c:catAx>
        <c:axId val="53760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62399"/>
        <c:crosses val="autoZero"/>
        <c:auto val="1"/>
        <c:lblAlgn val="ctr"/>
        <c:lblOffset val="100"/>
        <c:noMultiLvlLbl val="0"/>
      </c:catAx>
      <c:valAx>
        <c:axId val="31062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60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E83-9DB0-4AF2-A3E7-152145FD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551-A54D-4DE7-AC95-44D65CB6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80F-EC07-465A-8A79-BA33C494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859-9F8F-49F1-9B62-FF759598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FEF-9792-4BF8-8782-84F40326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1CD-5517-421D-AE3C-BF9E6E08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A2C-57C3-4854-A135-94D1FEFD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57F-2025-4C55-9757-40EC2B8F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7DE-1BD5-4E72-8834-E0E239E7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61B-4BE8-41BB-BE18-F737B1C0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FB8-FC48-4967-99E6-DEF252AE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B82-3919-4396-8AB6-3A9D33FA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F1642-102B-4286-B19A-93D0CDCDF2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