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1856"/>
        <c:axId val="10580279"/>
      </c:barChart>
      <c:catAx>
        <c:axId val="4611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0279"/>
        <c:crosses val="autoZero"/>
        <c:auto val="1"/>
        <c:lblAlgn val="ctr"/>
        <c:lblOffset val="100"/>
        <c:noMultiLvlLbl val="0"/>
      </c:catAx>
      <c:valAx>
        <c:axId val="1058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4F9-7E7D-4463-BF04-B7C3D64C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54A-3FDB-42DE-ADDC-36B52386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BDE-C113-49C4-9A97-3FA5DD36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604-94A8-4F76-9B27-BB621C1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92F-0B15-4850-9725-801B674A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647-07DE-423B-9E92-71329814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34E-8332-4EBE-AF65-954CE96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ABC-A599-48A5-AD54-6D055D9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60A-E535-4892-9F7C-4A599121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64D-A3E8-4132-8C26-78C37A9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8DB-2694-4994-BF97-8ABF1CD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1FF-12F8-488C-95EC-8552008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F71E-788B-42D2-919E-9F819B959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