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93328"/>
        <c:axId val="20324086"/>
      </c:barChart>
      <c:catAx>
        <c:axId val="450933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24086"/>
        <c:crosses val="autoZero"/>
        <c:auto val="1"/>
        <c:lblAlgn val="ctr"/>
        <c:lblOffset val="100"/>
        <c:noMultiLvlLbl val="0"/>
      </c:catAx>
      <c:valAx>
        <c:axId val="203240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933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3155-8295-48A7-A858-F1277690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D48-DF4F-4F2B-ACD8-2F3776A2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4A90-C042-411A-A8D6-29BA8C1C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8311-7B97-442B-802F-E78E1B6F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3F64-EA84-4D82-BA4C-3787C781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096C-0EBF-4B13-9D37-A7ECC369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932-8DB3-40CC-B163-C015C521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378-D2FF-4025-B3D4-F8EBCC8B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4938-DD2D-4B98-837A-BBE5A1D1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9015-863A-4217-9C12-4FA5F3C9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8648-BCC0-47D3-875A-7D33B805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32FB-7A14-4965-8222-CEACEECD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C6A66-EBD5-46C5-BFE8-1E07121C70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