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55071"/>
        <c:axId val="94229770"/>
      </c:barChart>
      <c:catAx>
        <c:axId val="98455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29770"/>
        <c:crosses val="autoZero"/>
        <c:auto val="1"/>
        <c:lblAlgn val="ctr"/>
        <c:lblOffset val="100"/>
        <c:noMultiLvlLbl val="0"/>
      </c:catAx>
      <c:valAx>
        <c:axId val="94229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55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3E0-F243-4780-979F-EA7ECF98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F72-FB52-4353-BF3C-003B2289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865-8D59-4826-A3CE-CE10C07C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FF6-234E-49FC-A88D-7CB59FA4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0F4-4940-4137-961D-4E099B53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D9D-1622-4931-B498-43A4054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3DE-8EE1-4B04-8086-1F6A43A7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791-DE16-4397-8D1F-7F35A378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2B1-B0E4-40DA-8ABD-E456CEA3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D2B-37C3-4115-A48D-4F2B3BC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FB9-3236-4545-B76C-A3224C48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53B-0B04-4B9E-B72F-1CAAA4FB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24F02-3023-4CEA-9325-AB37F5AD8B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